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56D1-77FD-41D2-854F-3D5802E3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BA4-A70F-4A7A-9A75-D9300A3D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E71A-B228-4492-9277-05EFEED3C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E78-0A53-4374-B47E-7429B59C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E69-9EAC-48B5-A058-2A1C163FF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66E-E7CE-4270-8B3E-FA1FB7D3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FEDD-D88A-45AD-AF5B-00EA282A9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7284-CB0B-4D9B-B968-4D741B79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A906-7500-4BC2-8537-3C8515A3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682-A2AE-4315-BC80-0A8EFE67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9904-CF58-4A45-8240-E572B973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A32-C9DA-4817-ABE4-A019BD88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605C-3341-4155-8DD8-9222BD207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26AA-A7ED-4FF6-8C38-BA649C65D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69D8-D43B-44C7-BC09-C57EF565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154-9E9C-4A84-A335-CC32B531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77C-0904-4690-B7AE-D848C1AB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2C4-1AA8-456C-9119-CD62BE14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EB4-CE5D-4789-952D-7CAAAEF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128-894D-4D1D-AC27-3F4519C9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F95-3789-4EF5-B9F1-7DFBB029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5FF-05E3-4AEF-9D5C-53267C87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FA4-DFDA-4ECE-B852-350EE38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F0E-6B07-4A4E-80E5-EA802199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CD8-C227-45C1-9C7E-698C2D7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732-E836-4CE2-B05B-D582BE2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126-DA75-441C-B6AA-083322B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CFE6-E162-49D0-ABCE-A22D6F557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copies hand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makes organisms more adva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descended from 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more evolutionarily advanced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alleles are for beneficia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not b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a theory (not a fact), therefore evolution is just spe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believe in God and in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does not explain how life orig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acts for the good of the species or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 be summarized by the phras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of the fittest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rganisms can adapt or evolve to better survive in new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(e.g. the tallest, the most red, etc.) trait of an organism allows it to surviv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does not always result in a species being perfectly adapted to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53:12Z</dcterms:created>
  <dc:creator>rubina khan</dc:creator>
  <dc:description/>
  <dc:language>en-US</dc:language>
  <cp:lastModifiedBy>rubina khan</cp:lastModifiedBy>
  <dcterms:modified xsi:type="dcterms:W3CDTF">2016-01-26T15:25:49Z</dcterms:modified>
  <cp:revision>63</cp:revision>
  <dc:subject/>
  <dc:title>Evolution Quiz</dc:title>
</cp:coreProperties>
</file>